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1350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35E-2170-42B5-BEF1-C63F17BB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5D8-2014-4586-A8CD-AD61322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0CB-B5EC-4ACC-86FB-C158D501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169-642A-4C35-AAD5-8990D04B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91B7-E855-4884-A0B6-CFC292C7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99CC-8486-44B0-A1C9-5D8FE1E4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0EFD-4C75-41AC-84FA-FE1C7F1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C2F8-66F4-44FD-AA63-D9BB8DB7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2A66-4E60-4EB9-A7EC-5BBC072D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A624-D281-4D77-A571-09F6F78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591A-0DB9-426F-B261-0CCEA32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0AC-B86C-4BD2-973A-D83352F7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B70A-B138-4D57-861E-FDAB1CCF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291A-8349-4B5F-8343-3DC7ECB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F4F8-F219-4739-BB78-74730FC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21C1-54B8-4B3C-B76A-04267059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1C02-6A59-4F3D-8727-02E85820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690-DB15-4FCF-90AB-9E2A079A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F58-8D9C-47EA-98CD-BA71B40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D3C-DA1A-4FE4-9861-DB8E072B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255-52F7-4D9D-AAA1-D7741D2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7D4-FCB5-4EE4-B6FB-BF868A45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E7F-911E-47E9-8E3A-4B2FF58C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BED-8328-41BC-A5CB-32BC884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3FC7-C604-4884-9A95-8ED02B4A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F73C-EFE2-4FDE-BB94-B0E24EBD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Eligibl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500C-642C-4D31-BDB9-418DB6C3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Access (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duit access to the Internet,       E-mail service, and web hosting are eligible I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duits include but are not limi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over Power Lines (B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x, DS-x, OC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7919-6C2A-4705-9401-FCBE12D8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Connections (IC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iority Tw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700-DFF8-4703-A275-E287A151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Visual Guide to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rial of the eligibility of services an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 of condi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product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2A8-A701-4EEA-BC69-162B8273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Connections Ex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Rack design plus divisions"/>
          <p:cNvPicPr/>
          <p:nvPr/>
        </p:nvPicPr>
        <p:blipFill>
          <a:blip r:embed="rId1"/>
          <a:stretch/>
        </p:blipFill>
        <p:spPr>
          <a:xfrm>
            <a:off x="609480" y="114300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218-36F5-4B18-B0E5-8E78B260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Connections Ex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Rack 2"/>
          <p:cNvPicPr/>
          <p:nvPr/>
        </p:nvPicPr>
        <p:blipFill>
          <a:blip r:embed="rId1"/>
          <a:stretch/>
        </p:blipFill>
        <p:spPr>
          <a:xfrm>
            <a:off x="990720" y="1168560"/>
            <a:ext cx="73911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DD6-DA1D-4951-B9E2-5A5A775A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room Intern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omputer bank plus divisions"/>
          <p:cNvPicPr/>
          <p:nvPr/>
        </p:nvPicPr>
        <p:blipFill>
          <a:blip r:embed="rId1"/>
          <a:stretch/>
        </p:blipFill>
        <p:spPr>
          <a:xfrm>
            <a:off x="533520" y="1295280"/>
            <a:ext cx="78483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945-5CCF-4FAB-B3A2-CFD83470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Inter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Ex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Room 2 plus divisions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AEDA-EDFC-4452-8C14-DAFC2224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Maintenance of Internal Connec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Priority Tw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28C-55C6-4632-843F-90764F5D6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e necessary and continued operation of eligible internal connection components at eligible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epair and upkeep of eligible hardware, wire and cable maintenance, and configura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3BB9-72D7-4D88-8C53-915F43A9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echnical support of eligible hardware is Eligible. End-user support such as a student calling a help desk for technical assistance is NOT Elig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C5D3-CDA0-45BD-A104-CB1B4608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igible Services List (ES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/Service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onnections (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6EA-1733-4CCD-BEA8-EC3BE96E4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a Recurr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ust be within July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June 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exempt from the Two-in-Fiv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F01-9AE2-46B8-A098-282AC095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B0F3-1F2D-4296-87AB-223171DA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ellaneous items reflect same category of the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, activation, initial configuration, training, shipping, taxes and lease fees are all conditionally e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8F1-7361-4738-A3A7-3BE2295E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EB14-20F4-4DB0-8BE2-9499AE4AE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gible Service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ligible Services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L is a reference for participants in the program to use to find out what products and services E-rate wil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Eligible Services List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from FCC Orders, USAC, and recommendations from the Public Com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6F4B-8EB7-4B48-80F1-E61DA935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gible Service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ec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s Serv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nec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aintenance of Internal Connec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87692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pecial areas with additional informa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ligibility Condi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8F8-FB60-414D-9E69-FA8DF41E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gible Services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38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2B6-94D5-4396-8667-32C4A4982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ecommunications Servic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iority 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6B8-683B-4791-9546-D9AA0EA7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Telephon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sic telephone services do NOT require a technology pl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0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ex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 phon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distance ser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S (Plain Old Telephone Servi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telephone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903-3A76-4BEE-933D-A4826D67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Basic Telecom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asic telecom services require a technolog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rvices listed as Digital Transmiss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but is not limited to: T-x, ATM, DSL, OC-x, Fiber Optic, DS-x, Frame Relay and P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B308-748F-4111-BF14-95D59CF50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Acc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iority 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rreynolds</cp:lastModifiedBy>
  <dcterms:modified xsi:type="dcterms:W3CDTF">2009-09-18T19:27:59Z</dcterms:modified>
  <cp:revision>62</cp:revision>
  <dc:subject/>
  <dc:title>Slide 1</dc:title>
</cp:coreProperties>
</file>